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D5C47518-466F-4556-B7AB-CED3E3C1383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6E42174E-0BC9-4496-88E5-D6BCB44944B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d@cmu.edu" TargetMode="External"/><Relationship Id="rId2" Type="http://schemas.openxmlformats.org/officeDocument/2006/relationships/hyperlink" Target="mailto:ss@cmu.edu" TargetMode="External"/><Relationship Id="rId3" Type="http://schemas.openxmlformats.org/officeDocument/2006/relationships/hyperlink" Target="mailto:tt@cmu.edu" TargetMode="External"/><Relationship Id="rId4" Type="http://schemas.openxmlformats.org/officeDocument/2006/relationships/hyperlink" Target="mailto:gg@cmu.edu" TargetMode="External"/><Relationship Id="rId5" Type="http://schemas.openxmlformats.org/officeDocument/2006/relationships/hyperlink" Target="mailto:jj@cmu.edu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66680" y="1752480"/>
            <a:ext cx="73152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Using the Instructor Support Tool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Class Roster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1"/>
          <a:srcRect l="756" t="9701" r="11272" b="16585"/>
          <a:stretch/>
        </p:blipFill>
        <p:spPr>
          <a:xfrm>
            <a:off x="1055520" y="1712880"/>
            <a:ext cx="73184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Class Roster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entering a class ros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new class with yourself as the instructor, your organization, class name, and today’s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roll the following students in your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 the form when finish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 #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-mai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nald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dd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a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ss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tt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et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gg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Times New Roman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as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Wingdings"/>
                <a:ea typeface="Wingdings"/>
              </a:rPr>
              <a:t>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jj@cmu.edu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55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he students complete assignments, you need to update the student data in the instructor support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orm and i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dropdown list, select your cla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student to be upda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you have an MDB student assignment file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Update Student (Access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avigate to the student’s assignment MDB fi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MDB file and click 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student name in the MDB file matches the name of the selected student, the update is perform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student name in the MDB file does not match the name of the selected student, you are asked to confirm the upd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data from the project summary reports into the appropriate student fi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the data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consiste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ct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1"/>
          <a:srcRect l="8427" t="7427" r="30929" b="32667"/>
          <a:stretch/>
        </p:blipFill>
        <p:spPr>
          <a:xfrm>
            <a:off x="3610080" y="2603520"/>
            <a:ext cx="47527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r have an Excel Stu1.xls (or StuN.xls) file,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on the Update Student (Excel) butt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vigate to the student’s StuN.xls fi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he XLS file and click 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student name in the XLS file matches the name of the student you selected, the update is perform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student name in the XLS file does not match the name of the student you selected, you are asked to confirm the up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may also be updated manual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ing on a student name will bring up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PSP Student Dat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 You may manually enter a student’s assignment data in this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6726" t="26606" r="6853" b="18729"/>
          <a:stretch/>
        </p:blipFill>
        <p:spPr>
          <a:xfrm>
            <a:off x="1019160" y="3584520"/>
            <a:ext cx="73756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Student Data -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updating studen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, select your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student data for each of the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DB student assignment files are on your student CD in the “Ex1 Data folder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xample, Donald’s data is in “\Student CD\Ex 1 Data\Donald PSP Student Workbook.2006.03.31\PSP Assignments MDB\PSP Assignments_be.mdb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Student Statu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4475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assignment status is maintained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or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is a column to record the status of each assign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 – indicates submitted (shows blu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 – indicates returned for correction (shows red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 – indicates accepted and data entered (shows green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&lt;space&gt; - clears the assignment statu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rcRect l="10074" t="13534" r="9889" b="48841"/>
          <a:stretch/>
        </p:blipFill>
        <p:spPr>
          <a:xfrm>
            <a:off x="1057320" y="3919680"/>
            <a:ext cx="73915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Student Statu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setting the status for the stud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the status of all students to “Entered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eriment with “Submitted” and “Returned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 the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ing or Presenting Class Data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review class data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ata Char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top of the form are the selectors for the class(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bottom of the form are the selectors for the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rcRect l="920" t="10621" r="4204" b="4260"/>
          <a:stretch/>
        </p:blipFill>
        <p:spPr>
          <a:xfrm>
            <a:off x="2673360" y="3583080"/>
            <a:ext cx="3895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ing or Presenting Class Data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he data for the charts first, using the top sele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elect a specific class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at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and select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view multiple classes, start with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on the lef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no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elected, all classes in the tool are displayed as one super “Class”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an instructor, narrows the selection to all classes taught by the selected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rther narrowing of the selection is accomplished by using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Organiza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Clas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ele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ing or Presenting Class Data -3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itial chart shows the number of assignments for each program that are used on the following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wo ways to navigate the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Char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may be used to go directly to any ch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cord navigator may be used to move sequentially through the charts or to the first or last ch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1697" t="83277" r="57422" b="4095"/>
          <a:stretch/>
        </p:blipFill>
        <p:spPr>
          <a:xfrm>
            <a:off x="2440080" y="4875120"/>
            <a:ext cx="40147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ile Time Analysi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17360" y="14475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rcRect l="4800" t="24228" r="4800" b="3477"/>
          <a:stretch/>
        </p:blipFill>
        <p:spPr>
          <a:xfrm>
            <a:off x="695160" y="1582560"/>
            <a:ext cx="79837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e Error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4800" t="24360" r="4800" b="3609"/>
          <a:stretch/>
        </p:blipFill>
        <p:spPr>
          <a:xfrm>
            <a:off x="695160" y="1603440"/>
            <a:ext cx="79012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vidual Studen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835360" y="3086280"/>
            <a:ext cx="4502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Do not discuss, reveal, or even hint at any one student’s data values or quality to anyone but that stud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Freeform 5"/>
          <p:cNvSpPr/>
          <p:nvPr/>
        </p:nvSpPr>
        <p:spPr>
          <a:xfrm>
            <a:off x="1373040" y="3083040"/>
            <a:ext cx="1393920" cy="12445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878" h="784">
                <a:moveTo>
                  <a:pt x="0" y="0"/>
                </a:moveTo>
                <a:lnTo>
                  <a:pt x="877" y="0"/>
                </a:lnTo>
                <a:lnTo>
                  <a:pt x="438" y="783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897560" y="3019320"/>
            <a:ext cx="3326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160"/>
                <a:tab algn="l" pos="291960"/>
                <a:tab algn="l" pos="438120"/>
                <a:tab algn="l" pos="584280"/>
                <a:tab algn="l" pos="730080"/>
                <a:tab algn="l" pos="876240"/>
                <a:tab algn="l" pos="1022400"/>
                <a:tab algn="l" pos="116856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endParaRPr b="0" lang="en-US" sz="69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5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ing Individual Studen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review individual student data, select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how Student Dat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adio butt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brings up a student selector and navigation butt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either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dropdown or the record navigation buttons to select the desired stud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41577" t="84460" r="6290" b="5113"/>
          <a:stretch/>
        </p:blipFill>
        <p:spPr>
          <a:xfrm>
            <a:off x="1917720" y="4722840"/>
            <a:ext cx="511956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e Error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individual student charts, answer the following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student 1’s error on program 3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the class minimum error for program 1? For program 2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inting Class Data Ch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Data Char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“Class” using the selectors at the top of the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the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Print Char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button at the bottom of the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brings up a preview window of the Charts that you may review before prin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either the Print command on the File menu or Control-P to print the charts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int dialog can be used to selectively print char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port and Import Class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Support Tool allows you to export a class to an XML file and to import a class from an XML fi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xport a class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navigator buttons at the bottom of the form, select the class to be exported and click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Export Class (XML)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butt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file dialog window, select the folder and file name. Then click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av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exercise, export the class you crea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port and Import Class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import a class, 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mport Class (XML)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butt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file dialog window, select the folder and file to be imported. Then click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O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exercise, import the class you just expor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Support To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rpose of the tool is to help you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the class ros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student statu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ore the studen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class and individual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eat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base (Acces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size is unlimi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multiple cla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the standard PSP data ch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data import from the PSP student workbook (Access and Excel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import and export of classes via XM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bmitting Class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part of your authorization, you are required to submit the data from each class you t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Export Class (XML) function to create an XML data file for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the data submission process to send the XML file to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roster is entered i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or remove students with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nclud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heckbox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assignment status is kept i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is updated from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udent Statu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is presented using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ata Char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Support To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9640"/>
            <a:ext cx="3706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main fun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up a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student assignmen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iew class and individual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rcRect l="9441" t="22146" r="18350" b="13906"/>
          <a:stretch/>
        </p:blipFill>
        <p:spPr>
          <a:xfrm>
            <a:off x="4975200" y="1782720"/>
            <a:ext cx="37227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exercis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up instructor support tool for a new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individual student data and studen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iew class and student data ch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rt and import cla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consists of the following activ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the Instructor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tool op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a class ros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data for five stud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class data ch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wo attributes of the data in detai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rt and import the clas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all and Start the Support To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all the Instructor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Support Tool fol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uble click on PSPInstr.ms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installation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PSP Instructor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get a security dialog about allowing “unsafe expressions”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“No”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get a security warning that the file may contain code that will harm your computer, do you want to open it?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“Open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t Tool Op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720" y="1709640"/>
            <a:ext cx="34509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ool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menu, select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Op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Number of Assignmen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select the number for your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now, leave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Program Data Includ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heckboxes s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Optio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, if you have Access 2007, click on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Add-I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o reveal th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ool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menu i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12617" t="18944" r="14666" b="13174"/>
          <a:stretch/>
        </p:blipFill>
        <p:spPr>
          <a:xfrm>
            <a:off x="4533840" y="1755720"/>
            <a:ext cx="41022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Class Roster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start of each class, you need to make a new class ros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 the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Manage Cla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 and create a new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e in the class information at the top of the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e in the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numb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istration status – (include checkbox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-mail address (optional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one number (optional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9Z</dcterms:modified>
  <cp:revision>210</cp:revision>
  <dc:subject/>
  <dc:title>No Slide Title</dc:title>
</cp:coreProperties>
</file>